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353-E850-47E5-AF81-FF1834D2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FD2-0753-4F85-BFF6-C3129412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6C8-B325-4CDE-8EF7-28E88EA7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D6A-8105-4CBD-B5B9-317D2618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3C9A-8BDD-4593-9C3F-73D94C95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BEFF-6E9D-4494-9637-B05E737B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A842-6C92-46C3-8ABA-4B80197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E4D-0175-47EC-A96E-409D9D0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A9D-3266-411E-B606-5F04BD43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EE4-2D06-4AB1-BC8B-1FD3CBE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5D2D-C73D-476B-95E3-789CA33C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0E5-4BE0-46C5-AD36-FDD2A2B9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B439-3558-4535-8C44-55FF320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A49A-F6CD-468D-9750-62218F0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5712-B502-4656-A2F7-3BF6450E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2CE4-3D01-485C-93EB-43554218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4350-0F4A-46E3-8EF3-614B3C0C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7D0-0B48-441B-AD9F-464E46A5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729-B22B-4A96-80C6-4419BEB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272-2738-456F-9540-E91E3FFB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783-BA30-4375-B34F-EEA2FD2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C17-D22B-4318-A3A2-0DC8667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F78-2299-4C9C-94CF-97E59853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AD1-8E40-43E8-908A-2C9CBCC3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AE0-9306-436D-BF21-56EFE166C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3D3-5D9C-436B-9E85-22FE867BE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the hajj"/>
          <p:cNvPicPr/>
          <p:nvPr/>
        </p:nvPicPr>
        <p:blipFill>
          <a:blip r:embed="rId1"/>
          <a:stretch/>
        </p:blipFill>
        <p:spPr>
          <a:xfrm>
            <a:off x="4206960" y="3193920"/>
            <a:ext cx="5022720" cy="3760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152280" y="0"/>
            <a:ext cx="8839440" cy="175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ellringer 3/12/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e spoke about 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ive Pillars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of Islam.  Answer the following questions regarding our discuss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rst 5 minutes to fin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0" y="388620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Do you have any “pillars” in your life or routines/duties that you follow everyday?  How would your life change if you suddenly had to remove those routines or follow new o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2895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ve Pill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the hardest to follow for you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0" y="21337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five pillars of Islam?  (just the n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12T11:51:23Z</dcterms:modified>
  <cp:revision>12</cp:revision>
  <dc:subject/>
  <dc:title>Slide 1</dc:title>
</cp:coreProperties>
</file>